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03E-BD09-4D14-9951-948A5632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02C-5D66-4818-99DC-87745774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B26-28FE-49C7-B74C-0C3E763F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CB4-5D04-4BE9-AF26-C0936B5C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B36-3B55-4974-B1B0-292A8F42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E69-EE2E-4DFA-8133-933246EA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019-B081-4F29-B179-36A17C65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ED4-E8C0-4EBE-A934-2D2CF4C6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0A7-132B-4711-9248-6915AADA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DF8-5968-4EE8-8B69-5BB71DE0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DD4-B343-4FBA-9D62-421B003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EAA-FF6C-44F0-9A4B-649058F9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F9D4-EEB7-4BFC-85D4-2F92000A9D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titul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2535120" y="141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66560" y="74628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ность и способность к саморазвитию и самоопред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значимых социальных и межличностных отнош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и, отражающие личностные и гражданские позиции в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компете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созн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ставить цели и строить жизненные пл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к осознанию российской идентичности в поликультурном социу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826920" y="1159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ориентирован 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РТРЕТ ВЫПУСКНИКА ОСНОВНОЙ ШКОЛ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851280" y="11970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бящий свой край и своё Оте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рав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ющий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актив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ющий общ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доров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иентирующийся в мире професс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8360" y="35766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должен быть челов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276720" y="1413000"/>
            <a:ext cx="358560" cy="51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минимакс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ем знания по максимум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рашиваем по миним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4427640" y="400212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Ученик научитс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4427640" y="5199120"/>
            <a:ext cx="43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Ученик получит возможность научитьс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395280" y="18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 и предметные планируемые результаты разбиваются на две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682560" y="387972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 для осв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539640" y="52592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бязательно для осв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5724360" y="2781360"/>
            <a:ext cx="503280" cy="1152360"/>
          </a:xfrm>
          <a:prstGeom prst="downArrow">
            <a:avLst>
              <a:gd name="adj1" fmla="val 50000"/>
              <a:gd name="adj2" fmla="val 572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5400000">
            <a:off x="3419640" y="3547080"/>
            <a:ext cx="503280" cy="1368360"/>
          </a:xfrm>
          <a:prstGeom prst="downArrow">
            <a:avLst>
              <a:gd name="adj1" fmla="val 28083"/>
              <a:gd name="adj2" fmla="val 716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3419640" y="4926600"/>
            <a:ext cx="503280" cy="1368360"/>
          </a:xfrm>
          <a:prstGeom prst="downArrow">
            <a:avLst>
              <a:gd name="adj1" fmla="val 28083"/>
              <a:gd name="adj2" fmla="val 716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6"/>
          <p:cNvSpPr/>
          <p:nvPr/>
        </p:nvSpPr>
        <p:spPr>
          <a:xfrm>
            <a:off x="2163600" y="21420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343080" y="857160"/>
            <a:ext cx="8429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межпредметных понятий и универсальных учебных действий (УУД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ятив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их использования в прак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 планирования и осуществления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учебного сотрудничества с педагогами и сверст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индивидуальной образовательной траек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"/>
          <p:cNvSpPr/>
          <p:nvPr/>
        </p:nvSpPr>
        <p:spPr>
          <a:xfrm>
            <a:off x="1646280" y="142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по образовательным областям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80720" y="141300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Фил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1478880" y="1746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й язы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1480320" y="21528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1477800" y="25588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179280" y="30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бщественно-научны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79960" y="339408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1478880" y="38116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общая ист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1479240" y="4229280"/>
            <a:ext cx="21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478520" y="46465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186120" y="51642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Математика и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0" y="57405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Основы духовно-нравственн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ы народо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4630680" y="1486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Естественнонаучны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5641560" y="186372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640840" y="227808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5641200" y="2709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4629240" y="32464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скус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5643720" y="365292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искус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640480" y="4160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627080" y="479736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Техн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4598640" y="5380200"/>
            <a:ext cx="43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Физическая культура и основ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сти жизне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6"/>
          <p:cNvSpPr/>
          <p:nvPr/>
        </p:nvSpPr>
        <p:spPr>
          <a:xfrm>
            <a:off x="4503600" y="1486080"/>
            <a:ext cx="0" cy="47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055520" y="981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хсоставный 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5124600" y="98100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ухсоставный 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"/>
          <p:cNvSpPr/>
          <p:nvPr/>
        </p:nvSpPr>
        <p:spPr>
          <a:xfrm>
            <a:off x="1055520" y="30718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"/>
          <p:cNvSpPr/>
          <p:nvPr/>
        </p:nvSpPr>
        <p:spPr>
          <a:xfrm>
            <a:off x="1055520" y="44164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1055520" y="5761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5124600" y="29242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стандар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7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4871880" y="4268880"/>
            <a:ext cx="33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ь, формируема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частниками образовательного процесс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3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"/>
          <p:cNvSpPr/>
          <p:nvPr/>
        </p:nvSpPr>
        <p:spPr>
          <a:xfrm>
            <a:off x="3276720" y="26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947880" y="2781360"/>
            <a:ext cx="3024000" cy="38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16600" y="2781360"/>
            <a:ext cx="3024000" cy="38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208240" y="1879560"/>
            <a:ext cx="503280" cy="792360"/>
          </a:xfrm>
          <a:prstGeom prst="downArrow">
            <a:avLst>
              <a:gd name="adj1" fmla="val 50000"/>
              <a:gd name="adj2" fmla="val 39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6276960" y="1881360"/>
            <a:ext cx="503280" cy="792000"/>
          </a:xfrm>
          <a:prstGeom prst="downArrow">
            <a:avLst>
              <a:gd name="adj1" fmla="val 50000"/>
              <a:gd name="adj2" fmla="val 393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46160" y="235080"/>
            <a:ext cx="64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ая программа по предмету, кур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1690560" y="836640"/>
            <a:ext cx="54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ые предметы по Б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"/>
          <p:cNvSpPr/>
          <p:nvPr/>
        </p:nvSpPr>
        <p:spPr>
          <a:xfrm>
            <a:off x="1690560" y="1434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ые предметы и курсы (обязательные, элективные, факультати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1690560" y="23986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гративные 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"/>
          <p:cNvSpPr/>
          <p:nvPr/>
        </p:nvSpPr>
        <p:spPr>
          <a:xfrm>
            <a:off x="1690560" y="2997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рсы в рамках внеурочной деятельност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108000" y="3645000"/>
            <a:ext cx="65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рабочие программы составляются учител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учетом конкретных условий (особенност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иона (район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кретных уче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ого учреж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о-технической б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1379520" y="5805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рабочие программы составляются учител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«Примерных программ по предме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5"/>
          <p:cNvSpPr/>
          <p:nvPr/>
        </p:nvSpPr>
        <p:spPr>
          <a:xfrm>
            <a:off x="1060560" y="763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ие программы отдельных учебных предметов, курсов должны содерж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6"/>
          <p:cNvSpPr/>
          <p:nvPr/>
        </p:nvSpPr>
        <p:spPr>
          <a:xfrm>
            <a:off x="214200" y="928800"/>
            <a:ext cx="87156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яснительную записку, в которой конкретизируются общие цели ООО с учётом специфики учебного предмет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ую характеристику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места учебного предмета, курса в учебном плане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месте с завуче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, метапредметные и предметные результаты освоения конкретного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имерных программ и + «свое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ое планирование с определением основных видов учебной деятельности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имерных программ и + «свое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учебно-методического и материально-технического обеспечения образовательного процес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что есть в ОУ на данный учебный год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изучения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179280" y="189000"/>
            <a:ext cx="3672000" cy="2288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к условиям реализации основной образовательной программы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4749840" y="1126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др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4749840" y="61740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4749840" y="11224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о-тех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4749840" y="2133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о-метод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4749840" y="162720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о-педаг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682560" y="30384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реализации указанных требований должно бы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здание образовательной сре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0"/>
          <p:cNvSpPr/>
          <p:nvPr/>
        </p:nvSpPr>
        <p:spPr>
          <a:xfrm>
            <a:off x="573120" y="4199040"/>
            <a:ext cx="82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беспечивающей высоко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чество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1"/>
          <p:cNvSpPr/>
          <p:nvPr/>
        </p:nvSpPr>
        <p:spPr>
          <a:xfrm>
            <a:off x="573120" y="5089680"/>
            <a:ext cx="79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Гарантирующе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храну здоровь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бучаю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2"/>
          <p:cNvSpPr/>
          <p:nvPr/>
        </p:nvSpPr>
        <p:spPr>
          <a:xfrm>
            <a:off x="573120" y="5985000"/>
            <a:ext cx="81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емственн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о отношени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 начально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4043520" y="1150920"/>
            <a:ext cx="576000" cy="358920"/>
          </a:xfrm>
          <a:prstGeom prst="rightArrow">
            <a:avLst>
              <a:gd name="adj1" fmla="val 50000"/>
              <a:gd name="adj2" fmla="val 401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635400" y="84240"/>
            <a:ext cx="78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 готовности ОУ к реализации ФГОС ОО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16440" y="765000"/>
            <a:ext cx="87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а и утверждена основная 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24000" y="1195560"/>
            <a:ext cx="828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ено повышение квалификации педагогических работников учреждения по проблеме реализации нового образовательного станд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24000" y="2235240"/>
            <a:ext cx="813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 план методической работы, обеспечивающей сопровождение реализации ФГОС ОО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24000" y="2971800"/>
            <a:ext cx="812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в образовательного учреждения, его локальные акты (положения, инструкции и т.д.) приведены в соответствие с требованиями ФГОС ОО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18600" y="4011480"/>
            <a:ext cx="66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 список учебников и учебных пособ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24000" y="4441680"/>
            <a:ext cx="80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ы локальные акты, регламентирующих установление заработной платы работников 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24000" y="517860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а оптимальная модель организации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13560" y="5913360"/>
            <a:ext cx="82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ы необходимые материально-технические усло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19320" y="6345360"/>
            <a:ext cx="66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информационно-образовательная сре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2"/>
          <p:cNvSpPr/>
          <p:nvPr/>
        </p:nvSpPr>
        <p:spPr>
          <a:xfrm>
            <a:off x="249120" y="11592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включает в себя треб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зультат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воения основной образовательной программы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труктуре основной образовательной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словиям реализ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новной образовательной программы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136440" y="3546360"/>
            <a:ext cx="885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создан д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СЕГО ОБРАЗОВАТЕЛЬНОГО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ОБЩ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ции О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цев ВСЕХ уров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нансистов ВСЕХ уров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набженцев ВСЕХ уров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503280" y="26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на компетентностную модель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503280" y="14842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Компетенция – совокупность определенных знаний, умений и навыков, в которых человек должен быть осведомлен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меть практический опыт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503280" y="39798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-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03280" y="5337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только передача ученикам знаний и опыт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 и организация их самостоятельной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246560" y="765000"/>
            <a:ext cx="720720" cy="721080"/>
          </a:xfrm>
          <a:prstGeom prst="downArrow">
            <a:avLst>
              <a:gd name="adj1" fmla="val 50000"/>
              <a:gd name="adj2" fmla="val 250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246560" y="321300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4246560" y="45799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312920" y="115920"/>
            <a:ext cx="64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иверсальные учебные действ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У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468360" y="7351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, Регулятивные, Коммуникатив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647640" y="170028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гулятив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УУД можно отне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амостоятельно определять цели своего обучения, ставить и формулировать для себя новые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амостоятельно планировать пути достижения целей, осознанно выбирать наиболее эффективные способы решения учебных и познавательных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оотносить свои действия с планируемыми результатами, осуществлять контроль свое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корректировать свои действия в соответствии с изменяющейся ситу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оценивать правильность выполнения учебно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ние основами самоконтроля, самооценки, принятия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24000" y="1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УД формируются с помо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41440" y="375984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Формирование универсальных учебных действи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9640" y="440568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Формирование ИКТ-компетентности обучающихс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42160" y="5053320"/>
            <a:ext cx="58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сновы учебно-исследовательск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проектной деятельност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8560" y="6066360"/>
            <a:ext cx="78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сновы смыслового чтения и работа с тексто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025640" y="1627560"/>
            <a:ext cx="32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должен специально отслежива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УД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каждом предм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909720" y="90792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5111640" y="90792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253200" y="1844640"/>
            <a:ext cx="720720" cy="1871640"/>
          </a:xfrm>
          <a:prstGeom prst="downArrow">
            <a:avLst>
              <a:gd name="adj1" fmla="val 50000"/>
              <a:gd name="adj2" fmla="val 649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11360" y="1120320"/>
            <a:ext cx="777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щение с устройствами ИК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ксация изображений и зву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письменных 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графических объе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музыкальных и звуковых 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, восприятие и использование гипермедиа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ция и социальное взаимодейств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 и организация хранения информ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информации, математическая обработка данных в исследован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рование, проектирование и управле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72320" y="333360"/>
            <a:ext cx="82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КТ-компетентности обучаю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826920" y="260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ОБРАЗОВАТЕЛЬ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087640" y="32511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единяет в себе все программные документы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2087640" y="4869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документальной основой деятельности всего ОУ в текущем учеб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2087640" y="1268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язывает все процессы, происходящие в ОУ в единый образов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1116000" y="2239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ОБРАЗОВАТЕЛЬ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79440" y="2079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яснительная запи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450720" y="323208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38280" y="4437000"/>
            <a:ext cx="177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и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846000" y="124308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3329640" y="12430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держ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3429000" y="2079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развития У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3429000" y="299736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ы отдельных учебных предм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3429000" y="4437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воспитания и социал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2"/>
          <p:cNvSpPr/>
          <p:nvPr/>
        </p:nvSpPr>
        <p:spPr>
          <a:xfrm>
            <a:off x="3429000" y="5661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коррекцион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3"/>
          <p:cNvSpPr/>
          <p:nvPr/>
        </p:nvSpPr>
        <p:spPr>
          <a:xfrm>
            <a:off x="6365880" y="12430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4"/>
          <p:cNvSpPr/>
          <p:nvPr/>
        </p:nvSpPr>
        <p:spPr>
          <a:xfrm>
            <a:off x="6623280" y="207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5"/>
          <p:cNvSpPr/>
          <p:nvPr/>
        </p:nvSpPr>
        <p:spPr>
          <a:xfrm>
            <a:off x="6515280" y="299736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условий 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3816360" y="80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250920" y="1844640"/>
            <a:ext cx="2592360" cy="34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3274920" y="1844640"/>
            <a:ext cx="2592360" cy="4897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6300720" y="1844640"/>
            <a:ext cx="2592360" cy="259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403280" y="18900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освоения основ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250920" y="1557360"/>
            <a:ext cx="44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 осво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учебных предметов, но ВСЕГО КОМПЛЕКСА О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5724360" y="326376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о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5726160" y="44467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724360" y="56358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 rot="5400000">
            <a:off x="5939280" y="1053000"/>
            <a:ext cx="1081080" cy="30956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900000" y="3141720"/>
            <a:ext cx="31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цениваютс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только фиксир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1440000" y="51004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и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3780000" y="4581360"/>
            <a:ext cx="1728720" cy="1440000"/>
          </a:xfrm>
          <a:prstGeom prst="leftArrowCallout">
            <a:avLst>
              <a:gd name="adj1" fmla="val 16205"/>
              <a:gd name="adj2" fmla="val 24403"/>
              <a:gd name="adj3" fmla="val 20064"/>
              <a:gd name="adj4" fmla="val 2176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>
            <a:off x="4284720" y="3357720"/>
            <a:ext cx="1152360" cy="288720"/>
          </a:xfrm>
          <a:prstGeom prst="leftArrow">
            <a:avLst>
              <a:gd name="adj1" fmla="val 50000"/>
              <a:gd name="adj2" fmla="val 997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07:25:08Z</dcterms:created>
  <dc:creator>Ивлев СА</dc:creator>
  <dc:description/>
  <dc:language>en-US</dc:language>
  <cp:lastModifiedBy>методист2</cp:lastModifiedBy>
  <dcterms:modified xsi:type="dcterms:W3CDTF">2013-07-04T06:30:45Z</dcterms:modified>
  <cp:revision>76</cp:revision>
  <dc:subject/>
  <dc:title>Слайд 1</dc:title>
</cp:coreProperties>
</file>